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76FD-8940-4A7F-BD88-AEC9547C2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966F-8DA3-4A4C-A1D5-C3E1D9327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5BE7-D65E-49C1-B3E7-F7F9CAF9F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D21E-6B7A-4E2F-B4B1-B463E5578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A359-E20B-458F-B3BB-22527F9A8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60A3-9A7B-4FAD-A362-8ECFE25983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C1F1-9471-4D25-B072-875E70ECC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62B6-CA24-4C9C-A280-262BEE521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A112-50B0-42BB-BBB1-BBEA89C800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E222-5DE0-4B17-9709-C52E8043BC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0535-2986-4B5C-B1D1-4A49EBECB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C43D-5816-47F9-A432-437E30594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50F0-25E0-458F-B906-BD88495CA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8990-9D9B-441F-A0B8-F6724F585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12B7-70F7-463E-8E4D-FD9588B7B4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C873-FFCD-4721-81E8-26F9967FB3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2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9012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5074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3C75-A57E-46F4-A996-757C10CE0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0C2A-9DF0-40CF-B97F-A4EABA759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43D4-1ED6-4FA2-8331-49EF07051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3AF5-DCCA-49A3-9839-0951BEFCC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27C5-9C02-417B-B688-DFFF05BB1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2894-CFC0-4A68-8249-C3FDDEAF3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5074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45AB-AD30-4A81-A258-B60117E95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5074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D9DD-3C9C-420D-A22F-A3C8948BC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6480" y="3885840"/>
            <a:ext cx="4267080" cy="2971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t">
            <a:normAutofit fontScale="75000"/>
          </a:bodyPr>
          <a:p>
            <a:pPr marL="29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9520" algn="ctr"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00440"/>
            <a:ext cx="303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E53-ECC8-4B76-8BC6-B4A98AE6CCF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1880" indent="-285840">
              <a:buClr>
                <a:srgbClr val="ff66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840" indent="-228600">
              <a:buClr>
                <a:srgbClr val="66ccff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9040" indent="-228600">
              <a:buClr>
                <a:srgbClr val="80ff00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46240" indent="-228600">
              <a:buClr>
                <a:srgbClr val="ffcc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46240" indent="-228600">
              <a:buClr>
                <a:srgbClr val="ffffff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46240" indent="-228600">
              <a:buClr>
                <a:srgbClr val="ffffff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29600" y="6400440"/>
            <a:ext cx="303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75B5-3C71-4DEF-9D4A-D1C0ED20FFA7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catter Plo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87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ingle number or measure that is descriptive of a larger collection of number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er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99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when there is numeric value associated with equally spaced points along a continuous number sca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ne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11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nts of things along a numeric sca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ne Plo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23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d by adding all of the numbers in the set and dividing the sum by the number of elements add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35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a drawing of some sort that represents what is being graph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8000"/>
            </a:gs>
            <a:gs pos="100000">
              <a:srgbClr val="010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8580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320" y="228600"/>
            <a:ext cx="1600200" cy="457200"/>
            <a:chOff x="76320" y="228600"/>
            <a:chExt cx="1600200" cy="457200"/>
          </a:xfrm>
        </p:grpSpPr>
        <p:sp>
          <p:nvSpPr>
            <p:cNvPr id="83" name=""/>
            <p:cNvSpPr/>
            <p:nvPr/>
          </p:nvSpPr>
          <p:spPr>
            <a:xfrm>
              <a:off x="76320" y="228600"/>
              <a:ext cx="1600200" cy="457200"/>
            </a:xfrm>
            <a:prstGeom prst="rect">
              <a:avLst/>
            </a:prstGeom>
            <a:solidFill>
              <a:srgbClr val="0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7680" y="273960"/>
              <a:ext cx="143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" action="ppaction://hlinksldjump"/>
                </a:rPr>
                <a:t>1,0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76520" y="1676520"/>
            <a:ext cx="3581280" cy="609480"/>
            <a:chOff x="1676520" y="1676520"/>
            <a:chExt cx="3581280" cy="609480"/>
          </a:xfrm>
        </p:grpSpPr>
        <p:sp>
          <p:nvSpPr>
            <p:cNvPr id="86" name=""/>
            <p:cNvSpPr/>
            <p:nvPr/>
          </p:nvSpPr>
          <p:spPr>
            <a:xfrm>
              <a:off x="1676520" y="16765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78720" y="176040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2" action="ppaction://hlinksldjump"/>
                </a:rPr>
                <a:t>5th Grade Topic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10080" y="1676520"/>
            <a:ext cx="3581280" cy="609480"/>
            <a:chOff x="5410080" y="1676520"/>
            <a:chExt cx="3581280" cy="609480"/>
          </a:xfrm>
        </p:grpSpPr>
        <p:sp>
          <p:nvSpPr>
            <p:cNvPr id="89" name=""/>
            <p:cNvSpPr/>
            <p:nvPr/>
          </p:nvSpPr>
          <p:spPr>
            <a:xfrm>
              <a:off x="5410080" y="16765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2280" y="176040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 action="ppaction://hlinksldjump"/>
                </a:rPr>
                <a:t>5th Grade Topic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676520" y="2647800"/>
            <a:ext cx="3581280" cy="609480"/>
            <a:chOff x="1676520" y="2647800"/>
            <a:chExt cx="3581280" cy="609480"/>
          </a:xfrm>
        </p:grpSpPr>
        <p:sp>
          <p:nvSpPr>
            <p:cNvPr id="92" name=""/>
            <p:cNvSpPr/>
            <p:nvPr/>
          </p:nvSpPr>
          <p:spPr>
            <a:xfrm>
              <a:off x="1676520" y="264780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8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78720" y="273168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4" action="ppaction://hlinksldjump"/>
                </a:rPr>
                <a:t>4th Grade Topic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410080" y="2647800"/>
            <a:ext cx="3581280" cy="609480"/>
            <a:chOff x="5410080" y="2647800"/>
            <a:chExt cx="3581280" cy="609480"/>
          </a:xfrm>
        </p:grpSpPr>
        <p:sp>
          <p:nvSpPr>
            <p:cNvPr id="95" name=""/>
            <p:cNvSpPr/>
            <p:nvPr/>
          </p:nvSpPr>
          <p:spPr>
            <a:xfrm>
              <a:off x="5410080" y="264780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12280" y="2731680"/>
              <a:ext cx="257544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5" action="ppaction://hlinksldjump"/>
                </a:rPr>
                <a:t>4th Grade Topic 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676520" y="3619440"/>
            <a:ext cx="3581280" cy="609480"/>
            <a:chOff x="1676520" y="3619440"/>
            <a:chExt cx="3581280" cy="609480"/>
          </a:xfrm>
        </p:grpSpPr>
        <p:sp>
          <p:nvSpPr>
            <p:cNvPr id="98" name=""/>
            <p:cNvSpPr/>
            <p:nvPr/>
          </p:nvSpPr>
          <p:spPr>
            <a:xfrm>
              <a:off x="1676520" y="361944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008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70440" y="3703320"/>
              <a:ext cx="259200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6" action="ppaction://hlinksldjump"/>
                </a:rPr>
                <a:t>3rd Grade Topic 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410080" y="3619440"/>
            <a:ext cx="3581280" cy="609480"/>
            <a:chOff x="5410080" y="3619440"/>
            <a:chExt cx="3581280" cy="609480"/>
          </a:xfrm>
        </p:grpSpPr>
        <p:sp>
          <p:nvSpPr>
            <p:cNvPr id="101" name=""/>
            <p:cNvSpPr/>
            <p:nvPr/>
          </p:nvSpPr>
          <p:spPr>
            <a:xfrm>
              <a:off x="5410080" y="361944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04000" y="3703320"/>
              <a:ext cx="259200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7" action="ppaction://hlinksldjump"/>
                </a:rPr>
                <a:t>3rd Grade Topic 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4591080"/>
            <a:ext cx="3581280" cy="609480"/>
            <a:chOff x="1676520" y="4591080"/>
            <a:chExt cx="3581280" cy="609480"/>
          </a:xfrm>
        </p:grpSpPr>
        <p:sp>
          <p:nvSpPr>
            <p:cNvPr id="104" name=""/>
            <p:cNvSpPr/>
            <p:nvPr/>
          </p:nvSpPr>
          <p:spPr>
            <a:xfrm>
              <a:off x="1676520" y="459108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800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6960" y="4674960"/>
              <a:ext cx="26589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8" action="ppaction://hlinksldjump"/>
                </a:rPr>
                <a:t>2nd Grade Topic 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4591080"/>
            <a:ext cx="3581280" cy="609480"/>
            <a:chOff x="5410080" y="4591080"/>
            <a:chExt cx="3581280" cy="609480"/>
          </a:xfrm>
        </p:grpSpPr>
        <p:sp>
          <p:nvSpPr>
            <p:cNvPr id="107" name=""/>
            <p:cNvSpPr/>
            <p:nvPr/>
          </p:nvSpPr>
          <p:spPr>
            <a:xfrm>
              <a:off x="5410080" y="459108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70520" y="4674960"/>
              <a:ext cx="26589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9" action="ppaction://hlinksldjump"/>
                </a:rPr>
                <a:t>2nd Grade Topic 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76520" y="5562720"/>
            <a:ext cx="3581280" cy="609480"/>
            <a:chOff x="1676520" y="5562720"/>
            <a:chExt cx="3581280" cy="609480"/>
          </a:xfrm>
        </p:grpSpPr>
        <p:sp>
          <p:nvSpPr>
            <p:cNvPr id="110" name=""/>
            <p:cNvSpPr/>
            <p:nvPr/>
          </p:nvSpPr>
          <p:spPr>
            <a:xfrm>
              <a:off x="1676520" y="55627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8000"/>
              </a:solidFill>
              <a:miter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87000" y="5646600"/>
              <a:ext cx="255852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0" action="ppaction://hlinksldjump"/>
                </a:rPr>
                <a:t>1st Grade Topic 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080" y="5562720"/>
            <a:ext cx="3581280" cy="609480"/>
            <a:chOff x="5410080" y="5562720"/>
            <a:chExt cx="3581280" cy="609480"/>
          </a:xfrm>
        </p:grpSpPr>
        <p:sp>
          <p:nvSpPr>
            <p:cNvPr id="113" name=""/>
            <p:cNvSpPr/>
            <p:nvPr/>
          </p:nvSpPr>
          <p:spPr>
            <a:xfrm>
              <a:off x="5410080" y="5562720"/>
              <a:ext cx="3581280" cy="609480"/>
            </a:xfrm>
            <a:prstGeom prst="pie">
              <a:avLst/>
            </a:prstGeom>
            <a:solidFill>
              <a:srgbClr val="004080"/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36320" y="5646600"/>
              <a:ext cx="272772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7120" tIns="38160" bIns="38160" anchor="ctr">
              <a:spAutoFit/>
            </a:bodyPr>
            <a:p>
              <a:pPr marL="9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1" action="ppaction://hlinksldjump"/>
                </a:rPr>
                <a:t>1st Grade Topic 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240" y="800280"/>
            <a:ext cx="1371600" cy="471240"/>
            <a:chOff x="165240" y="800280"/>
            <a:chExt cx="1371600" cy="471240"/>
          </a:xfrm>
        </p:grpSpPr>
        <p:sp>
          <p:nvSpPr>
            <p:cNvPr id="116" name=""/>
            <p:cNvSpPr/>
            <p:nvPr/>
          </p:nvSpPr>
          <p:spPr>
            <a:xfrm>
              <a:off x="165240" y="800280"/>
              <a:ext cx="1371600" cy="47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560" y="85140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2" action="ppaction://hlinksldjump"/>
                </a:rPr>
                <a:t>5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52280" y="1387440"/>
            <a:ext cx="1371600" cy="471600"/>
            <a:chOff x="152280" y="1387440"/>
            <a:chExt cx="1371600" cy="471600"/>
          </a:xfrm>
        </p:grpSpPr>
        <p:sp>
          <p:nvSpPr>
            <p:cNvPr id="119" name=""/>
            <p:cNvSpPr/>
            <p:nvPr/>
          </p:nvSpPr>
          <p:spPr>
            <a:xfrm>
              <a:off x="152280" y="138744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6600" y="143928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3" action="ppaction://hlinksldjump"/>
                </a:rPr>
                <a:t>3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280" y="1973160"/>
            <a:ext cx="1371600" cy="471600"/>
            <a:chOff x="152280" y="1973160"/>
            <a:chExt cx="1371600" cy="471600"/>
          </a:xfrm>
        </p:grpSpPr>
        <p:sp>
          <p:nvSpPr>
            <p:cNvPr id="122" name=""/>
            <p:cNvSpPr/>
            <p:nvPr/>
          </p:nvSpPr>
          <p:spPr>
            <a:xfrm>
              <a:off x="152280" y="197316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6600" y="202500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4" action="ppaction://hlinksldjump"/>
                </a:rPr>
                <a:t>17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2280" y="2560680"/>
            <a:ext cx="1371600" cy="471600"/>
            <a:chOff x="152280" y="2560680"/>
            <a:chExt cx="1371600" cy="471600"/>
          </a:xfrm>
        </p:grpSpPr>
        <p:sp>
          <p:nvSpPr>
            <p:cNvPr id="125" name=""/>
            <p:cNvSpPr/>
            <p:nvPr/>
          </p:nvSpPr>
          <p:spPr>
            <a:xfrm>
              <a:off x="152280" y="256068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6600" y="2612520"/>
              <a:ext cx="1181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5" action="ppaction://hlinksldjump"/>
                </a:rPr>
                <a:t>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2280" y="3147840"/>
            <a:ext cx="1371600" cy="471600"/>
            <a:chOff x="152280" y="3147840"/>
            <a:chExt cx="1371600" cy="471600"/>
          </a:xfrm>
        </p:grpSpPr>
        <p:sp>
          <p:nvSpPr>
            <p:cNvPr id="128" name=""/>
            <p:cNvSpPr/>
            <p:nvPr/>
          </p:nvSpPr>
          <p:spPr>
            <a:xfrm>
              <a:off x="152280" y="314784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0840" y="3199680"/>
              <a:ext cx="101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6" action="ppaction://hlinksldjump"/>
                </a:rPr>
                <a:t>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2280" y="3733920"/>
            <a:ext cx="1371600" cy="471240"/>
            <a:chOff x="152280" y="3733920"/>
            <a:chExt cx="1371600" cy="471240"/>
          </a:xfrm>
        </p:grpSpPr>
        <p:sp>
          <p:nvSpPr>
            <p:cNvPr id="131" name=""/>
            <p:cNvSpPr/>
            <p:nvPr/>
          </p:nvSpPr>
          <p:spPr>
            <a:xfrm>
              <a:off x="152280" y="3733920"/>
              <a:ext cx="1371600" cy="47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840" y="3785040"/>
              <a:ext cx="101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7" action="ppaction://hlinksldjump"/>
                </a:rPr>
                <a:t>2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280" y="4321080"/>
            <a:ext cx="1371600" cy="471600"/>
            <a:chOff x="152280" y="4321080"/>
            <a:chExt cx="1371600" cy="471600"/>
          </a:xfrm>
        </p:grpSpPr>
        <p:sp>
          <p:nvSpPr>
            <p:cNvPr id="134" name=""/>
            <p:cNvSpPr/>
            <p:nvPr/>
          </p:nvSpPr>
          <p:spPr>
            <a:xfrm>
              <a:off x="152280" y="432108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840" y="4372920"/>
              <a:ext cx="101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8" action="ppaction://hlinksldjump"/>
                </a:rPr>
                <a:t>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4906800"/>
            <a:ext cx="1371600" cy="471600"/>
            <a:chOff x="152280" y="4906800"/>
            <a:chExt cx="1371600" cy="471600"/>
          </a:xfrm>
        </p:grpSpPr>
        <p:sp>
          <p:nvSpPr>
            <p:cNvPr id="137" name=""/>
            <p:cNvSpPr/>
            <p:nvPr/>
          </p:nvSpPr>
          <p:spPr>
            <a:xfrm>
              <a:off x="152280" y="490680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5440" y="4958640"/>
              <a:ext cx="84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19" action="ppaction://hlinksldjump"/>
                </a:rPr>
                <a:t>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2280" y="5494320"/>
            <a:ext cx="1371600" cy="471600"/>
            <a:chOff x="152280" y="5494320"/>
            <a:chExt cx="1371600" cy="471600"/>
          </a:xfrm>
        </p:grpSpPr>
        <p:sp>
          <p:nvSpPr>
            <p:cNvPr id="140" name=""/>
            <p:cNvSpPr/>
            <p:nvPr/>
          </p:nvSpPr>
          <p:spPr>
            <a:xfrm>
              <a:off x="152280" y="5494320"/>
              <a:ext cx="1371600" cy="4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5440" y="5546160"/>
              <a:ext cx="84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2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52280" y="6081840"/>
            <a:ext cx="1371600" cy="471240"/>
            <a:chOff x="152280" y="6081840"/>
            <a:chExt cx="1371600" cy="471240"/>
          </a:xfrm>
        </p:grpSpPr>
        <p:sp>
          <p:nvSpPr>
            <p:cNvPr id="143" name=""/>
            <p:cNvSpPr/>
            <p:nvPr/>
          </p:nvSpPr>
          <p:spPr>
            <a:xfrm>
              <a:off x="152280" y="6081840"/>
              <a:ext cx="1371600" cy="47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5440" y="6132960"/>
              <a:ext cx="843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icture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47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the actual objects being graphed. Each item can be placed in a square or on a floor tile so that comparisons and counts are easily mad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l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59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ethod for visually displaying not only the center (median), but also information about the range and distribution or varianc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x and Whisker Plo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273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out numbers in contex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51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ense of how data are spread out or group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what characteristics about the data set as a whole can be described, and what the data tell us in a global way about the population from which they are tak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ape of Dat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63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form of bar graph in which the categories are consecutive equal intervals along a numeric scal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stogra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848720" y="5257800"/>
            <a:ext cx="1218960" cy="685800"/>
            <a:chOff x="7848720" y="5257800"/>
            <a:chExt cx="1218960" cy="685800"/>
          </a:xfrm>
        </p:grpSpPr>
        <p:sp>
          <p:nvSpPr>
            <p:cNvPr id="175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solidFill>
              <a:srgbClr val="c0c0c0"/>
            </a:solidFill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48720" y="5257800"/>
              <a:ext cx="1218960" cy="98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48720" y="5257800"/>
              <a:ext cx="97920" cy="68580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69040" y="5257800"/>
              <a:ext cx="98280" cy="685800"/>
            </a:xfrm>
            <a:prstGeom prst="pie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48720" y="5845320"/>
              <a:ext cx="1218960" cy="98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48720" y="5257800"/>
              <a:ext cx="1218960" cy="685800"/>
            </a:xfrm>
            <a:prstGeom prst="pie">
              <a:avLst/>
            </a:prstGeom>
            <a:noFill/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04520" y="5379480"/>
              <a:ext cx="110448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83880" tIns="38160" bIns="38160" anchor="ctr">
              <a:spAutoFit/>
            </a:bodyPr>
            <a:p>
              <a:pPr marL="6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Retur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91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66"/>
              </a:buClr>
              <a:buSzPct val="75000"/>
              <a:buFont typeface="Comic Sans MS"/>
              <a:buChar char="/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graph of points on a coordinate grid with each axis representing one of the two variab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ary Bodenschatz</dc:creator>
  <dc:description/>
  <dc:language>en-US</dc:language>
  <cp:lastModifiedBy/>
  <cp:revision>0</cp:revision>
  <dc:subject/>
  <dc:title>Are You Smarter  Than a 5th Grader?</dc:title>
</cp:coreProperties>
</file>